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CAC-202E-4A00-9051-3294792F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266-B975-401C-BFE4-E68BBA8A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D50-D9C7-415B-9A1E-54684D92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BEA-DA45-4C5B-95DE-32BE6B45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A0A3-B527-4DFD-8A70-F6420A96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839F-63BE-4CF9-8BB5-F30BAE4E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503E-4D8E-454C-9316-767CA3A5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B7FA-61F1-4C19-93D0-39D298AE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4069-E574-4B06-8DA3-C7FD3F0E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CA42-D43A-42F1-854D-AA92AA90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3FEC-22F4-4FE1-8EBC-7740CA8D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5DB-C98B-4EA0-A750-B5766A10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3551-0489-4F0C-95EB-25CA8AB1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E949-7A2C-4A18-B63B-8B79FDDF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F0DC-52F3-4697-8468-AB1E71C8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1399-A378-4629-B66E-31D74749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AD5C-AE44-472F-A06E-EA981714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C58-5671-4D2D-A6F7-BBBB330D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977-5305-4604-B05C-572C7230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777-9574-49D7-9057-32BAEED0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9B1-2BB8-4EAB-8A2E-64B63C8C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DC7-CA7D-4D01-9135-33C58221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141-D332-4BA0-A223-37DCA8ED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3BC-9B34-401A-BE5E-89B2CC0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4494-5CB6-4F50-9CB2-EAF291CBC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9903-BF30-43DE-9592-B1C6D5205B1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World War I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Great War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War to end all War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shot that rang throughout the world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71240"/>
            <a:ext cx="8461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5. Assassination of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chduke Franci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rdin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ir to the Austrian thr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nt to Bosnia on a visi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avrilo Princip, member of Black hand (Serbian Nationalist grp) kill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= Austria is mad!! = declares war on Serb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= Russia backs up Serbia &amp; declares war on Austria = WAR!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943600" y="781200"/>
            <a:ext cx="29750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ntral Pow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ermany, Austria- Hungary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one side of WWI that were member of the Triple Alliance; called this because of their central location in Eu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Germany, Austria- Hungary, Ottoman Empire, Bulgar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l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B, France, Russia, Japan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one side of WWI that were members of the Triple Ent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</a:t>
            </a: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GB, France, Russia, Japan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UROPE: 191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7" descr="eur1914"/>
          <p:cNvPicPr/>
          <p:nvPr/>
        </p:nvPicPr>
        <p:blipFill>
          <a:blip r:embed="rId1"/>
          <a:stretch/>
        </p:blipFill>
        <p:spPr>
          <a:xfrm>
            <a:off x="152280" y="1163520"/>
            <a:ext cx="871380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Germany’s War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uld not sustain a 2-front war, had th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chlieffen 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nock out France, then go get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 called for G to go thru Belgium, violating their neutrality (remember way back in 183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= which gave GB 2 reasons to go to war (attacking their ally &amp; Belgiu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lieffen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o: Germ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at: Germany’s strategic war plan &amp; battle strategy that called for attacking &amp; defeating France in the West then rushing East to get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ere: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Why: felt they could wait to get Russia b.c. they lagged behind the rest of Europe &amp; would take longer to get to the front lines = mistak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774px-Schlieffen_Plan"/>
          <p:cNvPicPr/>
          <p:nvPr/>
        </p:nvPicPr>
        <p:blipFill>
          <a:blip r:embed="rId1"/>
          <a:stretch/>
        </p:blipFill>
        <p:spPr>
          <a:xfrm>
            <a:off x="457200" y="96840"/>
            <a:ext cx="84549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914 –1915 – Stale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uros. Thought it would be a short war &amp; thought the boys would be home by Christm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r = stalemate, trench warf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stern front – French and Englis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stern front – Russi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stern Fro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Central Pwrs vs. All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deadlocked region in Northern France where most of the fighting was in WW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Northern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this is where most the fighting took place in WWI; used Trench warf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nch Warfare (N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w type warfar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stern Fro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lines of defense, Revolution in firepower (Rifl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man’s Land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5" descr="785px-Cheshire_Regiment_trench_Somme_1916"/>
          <p:cNvPicPr/>
          <p:nvPr/>
        </p:nvPicPr>
        <p:blipFill>
          <a:blip r:embed="rId1"/>
          <a:stretch/>
        </p:blipFill>
        <p:spPr>
          <a:xfrm>
            <a:off x="152280" y="1371600"/>
            <a:ext cx="480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uses of WW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Rise of Nationalism- intense love of one’s nation led to competition among European nations agnst. Each other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Imperialism &amp; Militarism- competition for overseas colonies &amp; Arms race: to be truly great you had to have a great powerful milit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stern Fro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520" y="685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ermans vs. Russi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the region in the East on the German/Russian border where the fighting occurr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German/Russian bor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more mobile fighting, slaughter, &amp; stalemate than on the W. Front; The Russian army tied up thousands of German troops here keeping them from succeeding in the W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ffects of WW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New weapons such as…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b.c. of the Industrial Revolutio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New Weaponr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12" descr="c20e0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558720"/>
            <a:ext cx="4800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restricted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Submarine Warf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erma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policy that would sink without any warning any ship in the waters around Brita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North Atlantic Oce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this led to sinking the “Lusitania” that had 128 US citizens = US entered the war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257800" y="0"/>
            <a:ext cx="36021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ffects.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. Total war!! (NC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oted all their 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time gov’ts took over Econom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ationing (NC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cription, or draf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poganda (NC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men help with manufacturing war goods as the men were away fighting= women get to vote post-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atio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Allies &amp; Central 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system on the homefront where people could only buy small amounts of goods that were needed for the war effo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throughout the wor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covered a lot of goods from butter to shoe leather; people at home sacrificed luxuries for war effo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paga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Allies &amp; Central 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one-sided information used to persuade &amp; keep up morale for the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all over the wor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gov’ts suppressed anti-war activity, censored news, and used this to keep people from turning against the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680" y="-152280"/>
            <a:ext cx="2776680" cy="4051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103560" y="1312920"/>
            <a:ext cx="2687760" cy="4038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6095880" y="2643120"/>
            <a:ext cx="2903760" cy="41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0" y="3780000"/>
            <a:ext cx="32767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W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Allies, Central 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war in which a country devotes all its’ resources to the war effo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all over the wor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4-191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WWI was the 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“total war”; Rationing, Propaganda, Women worked, Draf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e effects…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. Post Traumatic Stress Syndrome – “shell shock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. Death &amp; Destruction never seen before: 8.5 million soldiers died, 21  million wounded, many civilians died (15% of youth= birthrates dow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6248520" y="219564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litar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Europe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the policy of glorifying ones’ military power &amp; keeping an army prepared for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Eu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00-19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countries were in an Arms race: to be truly great you had to have a great powerful military- the country w. the greatest military &amp; arms = most powerful = this race = WW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9. Devastating economic impact: total cost $338 Million!! = Europe economically dependent on US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0. Destroyed farmland, villages, towns, &amp; homes (15,000 sq. miles F countryside ruined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yet… MORE effects…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1. Disillusionment of survivors = insecurity &amp; despair\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2. Treaties to end the war = anger &amp; resentment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ND… (of the war..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LD WAR ONE broke from the old world order that had been est. after Napoleonic wars and the Cong. Of Vien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gs us into the Modern Age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IS VITAL TO UNDERSTAND WWI, the causes, and the results-- IN ORDER TO UNDERSTAND WHY WWII HAPPENS.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eace making 1918 - 1919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 surrendered on November 11, 19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acemaking takes place in Paris, the Paris Peace Confere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5 treaties are the result, all named after Parisian suburb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important – treaty of Versailles – Germany’s trea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ig Fo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egates at the conference 1918 - 1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odrow Wilson, 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orges Clemenceau, Fr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ttorio Orlando, Ita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vid Lloyd George, Great Brita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ance’s goal: weaken Germany so that it could not become strong aga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sailles Trea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US, GB, France vs. Germa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compromise to end the w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Palace of Versailles,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June 28, 191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d League of Nations (NC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rticle 231/War-guilt clause: German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the end, did little to build lasting peace; instead, built bitterness &amp; betrayal = WWII!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odrow Wils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President of the US, member of the Big Fou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wanted “Peace without Victors” – 14 points for achieving a just &amp; lasting pea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US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wanted to bring peace with 14 pts – BUT only 1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t was adopted &amp; he wasn’t allowed- US Congress wouldn’t let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urteen Po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Woodrow Wil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14 points of peace proposals, a plan to bring peac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Palace of Versailles,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sought peace through-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secret treaties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dom of the seas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ee trade, fix colonies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duce militaries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nge borders &amp;create new nations based on Self-Determination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eneral association of the n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lf-Determin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Woodrow Wil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the guiding idea behind Wilson’s 14 pts; means- allowing people to decide for themselves under what gov’t they wished to liv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Eu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This was the guiding principle behind Wilson’s 14 points; wasn’t accepted by European 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ance &amp; GB didn’t want to accept 14 pts.. Too concerned @ secur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ccepted the 1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t: General association of the nations…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ka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uses (cont’d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 Tangled Alliance system-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owing rivalries among nations = allia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liances break up = new ones are m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liance system had been designed to keep Europe from going to war.. Instead pushes them into it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there’s 2 imp. Alliances that we end up with…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League of Nati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B, France &amp; oth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based off Wilson’s 1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t- an international association whose goal is to keep peace among the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Versailles Palace, Fr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19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nternational peace keeping org; this was created in the Treaty of Versailles- BU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 wasn’t a part of i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dn’t include Germany or Russia= G mad!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military to enfor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eaty of Versailles – article 23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r Guilt: Germany forced to accept war guilt, said they were completely responsible for the war and dam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wed $33Billion to Allies = YOWZA! That’s a LOT!! = Debt = unhappiness = rise of “National Socialism” (aka Nazis.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s led to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s of Territo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litary Restric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r Guilt feelings.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ss of Terri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ave Alsace-Lorraine to Fr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ench border extended to Rhineland (industr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ives up ALL overseas territor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stria-Hungary &amp; Ottoman Empir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st land = Empires fell apart = new small independent nations for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ussia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d to leave b.c. Russian Revolution = lost land to surrounding countr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litary Restric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rmany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ust reduce size of military DRASTICAL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uldn’t import or make weapons/war materi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uldn’t build/buy submari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uldn’t have air for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iple Alli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9140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ermany, Austria-Hungary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pact between the 3 to aid one another &amp; keep France from taking any of them ov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Germany, Austria- Hungary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879-188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the goal was to keep France isolated- this will become the Central Powers in WW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iple Enten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: Great Britain, France,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: a pact between the 3 to guarantee they would not fight agnst one another in case a war broke o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: GB, France,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: 190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: it didn’t promise they would fight w. each other but promised they wouldn’t fight agsnt each other; this became the Allied powers in WW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Alliance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ied Powers (Triple Entente) – Great Britain, France, Russ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entral Powers (Triple Alliance) – Germany, Austria – Hungary, Ita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kmanship – threaten war to get what you w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Y conflict in Europe could then make these 2 sides break out into war bc of the “alliances”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sues start arising, such as…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4. Crisis in the Balkans (NC from last time.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tionalism: they were trying to break away from Otto. Empire, some formed ind. N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rguing over who should control where.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stria-Hungary tookover Bosnia- Herzegovina = Serbia MAD!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5:14:04Z</dcterms:created>
  <dc:creator>DCPS</dc:creator>
  <dc:description/>
  <dc:language>en-US</dc:language>
  <cp:lastModifiedBy>Windows User</cp:lastModifiedBy>
  <dcterms:modified xsi:type="dcterms:W3CDTF">2012-03-14T12:49:19Z</dcterms:modified>
  <cp:revision>45</cp:revision>
  <dc:subject/>
  <dc:title>WWI, Russian Revolution, and Peacemaking</dc:title>
</cp:coreProperties>
</file>